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F411-6637-4115-A36C-B899F189A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F45C-D3C5-4AED-8803-8506FB2B5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4CBD-063C-466D-9A34-F1C7114D6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6630-94DF-47C0-9D17-5AE6A31CC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AC15-736D-42E1-8F34-F16F0BE69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38D6-4D86-42D5-940E-F8ADB95E3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1F1D-93A1-41D5-9594-5A6CC29A4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841C-CCD8-4C4A-911E-4903454D5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0B47-260B-4CFB-8FB7-6D0121EE2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FDF7-9E58-401F-B1A1-4F05F75D3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03C4-3F0A-40D6-AEAA-7114D5F82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F743-C644-46A8-8EBC-1AA761682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AA7E-5193-4666-A9EC-9A858F2C6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7EC8-0E8C-4CC2-ACFB-BC9E570A5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8047-13E1-4AFE-9B03-32DDD5EED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3570-0AD1-4B59-8375-4334E984D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2D8D-8939-438C-B92F-670CFF65A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8DEA-FA36-4345-8376-C19E30AD4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E843-296D-463F-9F8D-7A3E856B0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6313-3392-4230-BD27-831987FF3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F256-F8F8-4C78-B969-D359EAB7B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3C8C-CAB0-49D3-A443-92F4CC897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E6EE9-A28B-43ED-934B-53CA13EFF2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D84E4-37AB-4EA1-8792-0806FD72EE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CDF06-46DA-4677-9C2D-34BCDB2CAD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BEE61-4599-47C4-A0A5-08DC23BE63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E079-4492-4184-A19A-96280C1182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2D91-7777-4B56-9332-7EBBA320AB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1169-D312-49B5-B975-85C9903EBA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F224-8D88-4F3E-A856-4E9CDB468C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B472-7F81-4B55-82E2-B4007CBCC0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CFE9-6955-4DCC-9C63-2CE1A01E2D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5D70-716D-40ED-8AEB-3D5B20E9CA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F1387-C225-430A-9554-792CB808DE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B6D9-19CF-4FDE-85DC-AF83CAF752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62BB-45AC-4B78-A7FC-FA317D3198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118B-62E1-4D98-B33F-8A19336AA2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F15A-2C9F-4ED9-8CA1-907191E0BA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E973-4F34-4E3E-BEFA-1E94B9BC40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B1061-C427-4E75-A641-FE85524390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34CF8-0E71-44CF-BB09-9EB1BD0787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17CBB-4544-4102-894C-6B48295588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1DE18-79EB-401B-802A-30749396B7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14E5D-0C6E-433A-B3C5-9C33017BA7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4CA32-8AA7-4A76-B6F1-C604DB02CF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1BAD7-1D11-4AE5-B38A-D011A4742A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9297-F237-4649-AA3A-0788EB56A5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32F4-E7B6-4FED-907B-D412AA9BF5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407B-9E62-41D8-A7AF-60D8A8EAC2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Contrôle Qualité :  </a:t>
            </a:r>
            <a:br>
              <a:rPr sz="3600"/>
            </a:b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Diagnostics molé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7B61-A459-4D24-AF59-28F0C68C62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C630-17D6-4F0C-98D8-E1E98D64FC0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ltat négatif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DE81-7B24-4175-B796-4A04FE2678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770F-9C3F-45A1-B9FF-119915D8E445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isques avec la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plupart des RT-PCR sont faîtes « sur place 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primers ne sont pas nécessairement optimisés pour le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contrôles positifs sont « maison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contrôles négatifs sont « maison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interprétation des tests a besoin d’être faite prudem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3150-0438-4336-BC03-DDB61805B4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8076-2353-4C11-98D5-C5CD19030ADE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Vue généra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Prélèvement, transport, et traitement de l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intenir l’intégrité des acides nucléique à travers tous le process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Contrôle de la contamin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un circuit unidirectionnel de la zone de préparation des réactifs (ADN free) à la zone de traitement de l’échantillon, à la zone d’amplification et de détec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Contrôles positif et négati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00"/>
                </a:solidFill>
                <a:latin typeface="Verdana"/>
              </a:rPr>
              <a:t>Référence: CLSI MM3-A (Méthode de diagnostic moléculaire pour les maladies infectieu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99AC-6299-43A1-89AB-2AF239F555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1DF5-F08B-4BDB-8EDE-8CF61A07AC28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Qualité: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iagnostics molé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2452-41BF-4EC8-AF3E-08CDDD529B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5A13-AFF9-47B7-86F1-381932EC37C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633A-1F4E-4B04-BAC1-CE560DEA91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6C0B-F39F-4658-8399-A53D1EF59647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al Time-PCR (temps réel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Oval 3"/>
          <p:cNvSpPr/>
          <p:nvPr/>
        </p:nvSpPr>
        <p:spPr>
          <a:xfrm>
            <a:off x="152280" y="1600200"/>
            <a:ext cx="14479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ECHANTIL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Cible AN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 amplifié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 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52FD-9CA9-4C1B-A1AE-23306D77A7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7DE0-5416-4986-8ACE-3E01EFA91B01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actions d’amplif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Amplification / Te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5412600" y="4724280"/>
            <a:ext cx="23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 Narrow"/>
              </a:rPr>
              <a:t>PAS d’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6CA5-49F3-4D9F-A77A-5A685D197E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85D7-8086-4B57-95D6-6233724FCBA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228600" y="1305000"/>
            <a:ext cx="8153280" cy="49528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2"/>
          <p:cNvSpPr/>
          <p:nvPr/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al Time-PCR (temps rée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7200-503B-490D-AFA5-A6D0B4BF47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CBD6-E12F-4685-AD5F-38658D58531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 qualité des diagnostics moléculaires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DE87-BA80-4C3C-AD91-7B5432CDBF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EC09-C501-453D-A31B-03C03DC3A24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dolmazonv</cp:lastModifiedBy>
  <dcterms:modified xsi:type="dcterms:W3CDTF">2010-04-08T14:42:55Z</dcterms:modified>
  <cp:revision>7</cp:revision>
  <dc:subject/>
  <dc:title>Quality Control:   Molecular Diagnostics</dc:title>
</cp:coreProperties>
</file>